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C4E0-5CBF-4AC7-9443-80E9C8D0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4A2F-82EB-439B-B100-68A44E27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1140-C03A-4845-A122-D60654E9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9FD1-A4E9-4223-A1BB-0502CE83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457D-2C43-435E-B8FB-7BE0D7EC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34BE-B092-42EB-B194-48BC4C64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263-44A6-44A4-9F89-89D381EE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5002-0C26-4EC0-A270-B58C85610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845-5701-40DD-9D82-35B87669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5777-6841-4EEE-AC37-9B919FEAB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190A-7A33-4641-A804-921F9D8B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D525-00E1-4759-8BEF-2BE7A544E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8ED80-4E0C-45C1-AFEE-B8DE14CE27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7032" t="11458" r="7032" b="8333"/>
          <a:stretch/>
        </p:blipFill>
        <p:spPr>
          <a:xfrm>
            <a:off x="380880" y="380880"/>
            <a:ext cx="8382240" cy="5867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676520" y="57913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veloped by Patti Kra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7032" t="12394" r="5467" b="6359"/>
          <a:stretch/>
        </p:blipFill>
        <p:spPr>
          <a:xfrm>
            <a:off x="228600" y="609480"/>
            <a:ext cx="8534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7811" t="13540" r="6250" b="6251"/>
          <a:stretch/>
        </p:blipFill>
        <p:spPr>
          <a:xfrm>
            <a:off x="380880" y="457200"/>
            <a:ext cx="83822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7032" t="12502" r="6250" b="6251"/>
          <a:stretch/>
        </p:blipFill>
        <p:spPr>
          <a:xfrm>
            <a:off x="457200" y="53352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7032" t="12502" r="6250" b="6251"/>
          <a:stretch/>
        </p:blipFill>
        <p:spPr>
          <a:xfrm>
            <a:off x="380880" y="53352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7032" t="12502" r="7032" b="6251"/>
          <a:stretch/>
        </p:blipFill>
        <p:spPr>
          <a:xfrm>
            <a:off x="228600" y="262080"/>
            <a:ext cx="8686800" cy="64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6250" t="12197" r="5467" b="6143"/>
          <a:stretch/>
        </p:blipFill>
        <p:spPr>
          <a:xfrm>
            <a:off x="228600" y="457200"/>
            <a:ext cx="8610480" cy="59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7032" t="12502" r="6250" b="7294"/>
          <a:stretch/>
        </p:blipFill>
        <p:spPr>
          <a:xfrm>
            <a:off x="271440" y="488880"/>
            <a:ext cx="84582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7032" t="12502" r="5467" b="6251"/>
          <a:stretch/>
        </p:blipFill>
        <p:spPr>
          <a:xfrm>
            <a:off x="228600" y="457200"/>
            <a:ext cx="85345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7032" t="12502" r="6250" b="6098"/>
          <a:stretch/>
        </p:blipFill>
        <p:spPr>
          <a:xfrm>
            <a:off x="304920" y="380880"/>
            <a:ext cx="8458200" cy="59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7032" t="12502" r="6250" b="6295"/>
          <a:stretch/>
        </p:blipFill>
        <p:spPr>
          <a:xfrm>
            <a:off x="341280" y="460440"/>
            <a:ext cx="8458200" cy="59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7032" t="12502" r="6250" b="6251"/>
          <a:stretch/>
        </p:blipFill>
        <p:spPr>
          <a:xfrm>
            <a:off x="304920" y="609480"/>
            <a:ext cx="8458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7032" t="12502" r="6250" b="7294"/>
          <a:stretch/>
        </p:blipFill>
        <p:spPr>
          <a:xfrm>
            <a:off x="304920" y="457200"/>
            <a:ext cx="84582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9T14:45:39Z</dcterms:created>
  <dc:creator>Chris Yeager</dc:creator>
  <dc:description/>
  <dc:language>en-US</dc:language>
  <cp:lastModifiedBy>Chris Yeager</cp:lastModifiedBy>
  <dcterms:modified xsi:type="dcterms:W3CDTF">2004-12-29T16:25:49Z</dcterms:modified>
  <cp:revision>5</cp:revision>
  <dc:subject/>
  <dc:title>Slide 1</dc:title>
</cp:coreProperties>
</file>